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3BE2C3-3925-4FB2-B424-7E1AA312D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0E0C45-52AA-44F1-8E67-706C9D6E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95F808F-FC84-4799-A23D-E69F90070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D9CF1EF-70F5-4942-8E5F-837FE3E32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6BB78-7F44-4594-BEDC-A819F838E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7DAFD-07AF-4C3B-977A-D649C78C3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868F0-0931-469F-B0F2-3DB004684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CB4D5-CB96-48B1-956F-F2DBA8B42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6D533-9611-4F34-B0A7-764FB9414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DC879-1AF0-4307-B649-8B5614987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E2615-BE7A-4FFE-B7C1-E9965AE5A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A73B56B-F4BD-44FB-9572-8DBCB6621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78C41-1284-42F6-ACD4-3BC9AC20B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2BD56-B01C-45A7-8EE6-9BD08F1E1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1CF68-B170-4E59-BCAC-42C7719FE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861F0-A876-4F4F-BFFD-30EA56B8D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0AF28-9720-4E04-993D-FA5110851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593158-C797-46FF-B17E-FBD8A1C2D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B16AB8-DC72-4A1B-947E-88D9F670D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5EF8BD-F1BA-4396-A9EE-F9E5CBD95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A78700-3F39-4F68-A029-0B9F44F1B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AA6845-49F2-421F-90E1-1D5A582DB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088227-EACC-4D63-B4AC-B1F8C2373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A1ABC7-DBDE-4EA6-8218-A398E30A1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6251-3179-4C41-B06C-0C321808CA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2162-C809-4647-AA41-A3B25B640F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ackling Analysi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graph Analysis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erly as BCR Writ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Rainsford is first traveling on the ship, the “dank tropical night” was described as “press[ing] its thick warm blackness in upon the yacht” (Connell 40).  </a:t>
            </a:r>
            <a:r>
              <a:rPr b="1" lang="en-US" sz="3200" spc="-1" strike="noStrike">
                <a:solidFill>
                  <a:srgbClr val="ffffff"/>
                </a:solidFill>
                <a:latin typeface="Garamond"/>
              </a:rPr>
              <a:t>Because the night is “dank” and “pressing,” the reader gets the feeling that something is lurking beyond the unse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Four:  Provide More Suppor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another quote from the text to support your thesis statement.  Don’t repeat your first example, but find another example that adds to and supports your response.</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sure you use transitions words when shifting from one example to anoth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ter, as Rainsford surveyed the new land he was stranded on, he noticed that “the jungle weeds were crushed down, and the moss was lacerated; one patch of weeds was stained crimson” (Connell 43).</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ice that the student:</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roduced the quote</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d quotation mark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ited the quote using MLA documentation </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uthor last name     page numbe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Five:  Explain Your Suppor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finding a textual example, explain how the quote supports your thesi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k yourself:  What is happening in the quote?  Why is the quote importa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ter, as Rainsford surveyed the new land he was stranded on, he noticed that “the jungle weeds were crushed down, and the moss was lacerated; one patch of weeds was stained crimson” (Connell 43).  </a:t>
            </a:r>
            <a:r>
              <a:rPr b="1" lang="en-US" sz="2800" spc="-1" strike="noStrike">
                <a:solidFill>
                  <a:srgbClr val="ffffff"/>
                </a:solidFill>
                <a:latin typeface="Garamond"/>
              </a:rPr>
              <a:t>Rainsford has already heard ominous tales about this island, and now has evidence of a struggle and blood, insinuating that something, or someone, has been killed.  A possible murder adds to the suspense, leaving the reader questioning what might happen nex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Six:  Answer the “So What”</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order for you to earn a 3 or 4 on an analysis (BCR), you must insightfully clarify and extend your understanding beyond the literal (what is implied, or what can be assumed from this information).</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swer the following questions:</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does that mea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what?  Why is it importan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author trying to say?</a:t>
            </a:r>
            <a:endParaRPr b="0" lang="en-US" sz="2800" spc="-1" strike="noStrike">
              <a:solidFill>
                <a:srgbClr val="ffffff"/>
              </a:solidFill>
              <a:latin typeface="Garamond"/>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NOT ANSWER “How does this effect m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insford’s surroundings throughout the story keep the reader guessing and on-edge waiting for the next event.  The atmosphere created from these dark, foreboding places lets the reader know that Rainsford is not in a position of comfort; in fact, he should stay cautious and alert.  Without the creepy setting, the ending would not have the same effect…complete surpri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ut it all together…</a:t>
            </a:r>
            <a:endParaRPr b="1" lang="en-US" sz="4400" spc="-1" strike="noStrike">
              <a:solidFill>
                <a:srgbClr val="e5e5ff"/>
              </a:solidFill>
              <a:latin typeface="Garamond"/>
            </a:endParaRPr>
          </a:p>
        </p:txBody>
      </p:sp>
      <p:sp>
        <p:nvSpPr>
          <p:cNvPr id="133" name="PlaceHolder 2"/>
          <p:cNvSpPr>
            <a:spLocks noGrp="1"/>
          </p:cNvSpPr>
          <p:nvPr>
            <p:ph/>
          </p:nvPr>
        </p:nvSpPr>
        <p:spPr>
          <a:xfrm>
            <a:off x="457200" y="1371240"/>
            <a:ext cx="8229600" cy="62485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2000" spc="-1" strike="noStrike">
                <a:solidFill>
                  <a:srgbClr val="ffffff"/>
                </a:solidFill>
                <a:latin typeface="Garamond"/>
              </a:rPr>
              <a:t>In the story “The Most Dangerous Game” by Richard Connell, the dark and dangerous setting that Rainsford describes establishes the suspenseful atmosphere, or mood, which creates a mysterious tale with a surpise ending.  When Rainsford is frist traveling on the ship, the “dank tropical night” was described as “press[ing] its thick warm blackness in upon the yacht” (Connell 40). Because the night is “dank” and “pressing,” the reader gets the feeling that something is lurking beyond the unseen. Later, as Rainsford surveyed the new land he was stranded on, he noticed that “the jungle weeds were crushed down, and the moss was lacerated; one patch of weeds was stained crimson” (Connell 43). Rainsford has already heard ominous tales about this island, and now has evidence of a struggle and blood, insinuating that something, or someone, has been killed.  A possible murder adds to the suspense, leaving the reader questioning what might happen next. Rainsford’s surroundings throughout the story keep the reader guessing and on-edge waiting for the next event.  The atmosphere created from these dark, foreboding places lets the reader know that Rainsford is not in a position of comfort; in fact, he should stay cautious and alert.  Without the creepy setting, the ending would not have the same effect…complete surprise.</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a BCR?</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Frederick County, BCR=Brief Constructed Response</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ly, a BCR is an analysis of a text using specific examples to support your reasoning.  It may be a short paragraph (7-11 sentences) or a few paragraphs long, depending on the question.  DO NOT BE FOOLED; BCRs are NOT SHO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CPS Rubric</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4--100</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is response demonstrates an understanding of the complexities of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dresses the demands of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ffectively uses expressed </a:t>
            </a:r>
            <a:r>
              <a:rPr b="1" lang="en-US" sz="1400" spc="-1" strike="noStrike">
                <a:solidFill>
                  <a:srgbClr val="ffffff"/>
                </a:solidFill>
                <a:latin typeface="Garamond"/>
              </a:rPr>
              <a:t>and</a:t>
            </a:r>
            <a:r>
              <a:rPr b="0" lang="en-US" sz="1400" spc="-1" strike="noStrike">
                <a:solidFill>
                  <a:srgbClr val="ffffff"/>
                </a:solidFill>
                <a:latin typeface="Garamond"/>
              </a:rPr>
              <a:t> implied information from the text to clarify or extend understanding</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nsightfully</a:t>
            </a:r>
            <a:r>
              <a:rPr b="0" lang="en-US" sz="1400" spc="-1" strike="noStrike">
                <a:solidFill>
                  <a:srgbClr val="ffffff"/>
                </a:solidFill>
                <a:latin typeface="Garamond"/>
              </a:rPr>
              <a:t> clarifies and extends understanding </a:t>
            </a:r>
            <a:r>
              <a:rPr b="1" lang="en-US" sz="1400" spc="-1" strike="noStrike">
                <a:solidFill>
                  <a:srgbClr val="ffffff"/>
                </a:solidFill>
                <a:latin typeface="Garamond"/>
              </a:rPr>
              <a:t>beyond</a:t>
            </a:r>
            <a:r>
              <a:rPr b="0" lang="en-US" sz="1400" spc="-1" strike="noStrike">
                <a:solidFill>
                  <a:srgbClr val="ffffff"/>
                </a:solidFill>
                <a:latin typeface="Garamond"/>
              </a:rPr>
              <a:t> the literal, using </a:t>
            </a:r>
            <a:r>
              <a:rPr b="1" lang="en-US" sz="1400" spc="-1" strike="noStrike">
                <a:solidFill>
                  <a:srgbClr val="ffffff"/>
                </a:solidFill>
                <a:latin typeface="Garamond"/>
              </a:rPr>
              <a:t>well-chosen</a:t>
            </a:r>
            <a:r>
              <a:rPr b="0" lang="en-US" sz="1400" spc="-1" strike="noStrike">
                <a:solidFill>
                  <a:srgbClr val="ffffff"/>
                </a:solidFill>
                <a:latin typeface="Garamond"/>
              </a:rPr>
              <a:t> examples from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3--87</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is response demonstrates an understanding of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dresses the demands of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ses expressed </a:t>
            </a:r>
            <a:r>
              <a:rPr b="1" lang="en-US" sz="1400" spc="-1" strike="noStrike">
                <a:solidFill>
                  <a:srgbClr val="ffffff"/>
                </a:solidFill>
                <a:latin typeface="Garamond"/>
              </a:rPr>
              <a:t>and</a:t>
            </a:r>
            <a:r>
              <a:rPr b="0" lang="en-US" sz="1400" spc="-1" strike="noStrike">
                <a:solidFill>
                  <a:srgbClr val="ffffff"/>
                </a:solidFill>
                <a:latin typeface="Garamond"/>
              </a:rPr>
              <a:t> implied information from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larifies and extends understanding </a:t>
            </a:r>
            <a:r>
              <a:rPr b="1" lang="en-US" sz="1400" spc="-1" strike="noStrike">
                <a:solidFill>
                  <a:srgbClr val="ffffff"/>
                </a:solidFill>
                <a:latin typeface="Garamond"/>
              </a:rPr>
              <a:t>beyond</a:t>
            </a:r>
            <a:r>
              <a:rPr b="0" lang="en-US" sz="1400" spc="-1" strike="noStrike">
                <a:solidFill>
                  <a:srgbClr val="ffffff"/>
                </a:solidFill>
                <a:latin typeface="Garamond"/>
              </a:rPr>
              <a:t> the literal</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2--74</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is response demonstrates an implied, partial, or literal understanding of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acks transitional information to show the relationship of the support to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ses minimal information from the text to clarify or extend meaning</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1--61</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is response demonstrates some understanding of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y lack enough information to demonstrate an understanding of the text in relation to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y indicate a misreading of the text or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NSR--48</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response is completely irrelevant or incorrect.</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One:  Thesis Statement</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need to first answer the question by providing a thesis statemen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hesis statement is a statement expressing the main idea or a particular stand on a topic which will be proved within the context of the tex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One:  Thesis Statement</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hesis statement contains specific information to answer the question asked:</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tions the title and the author of the work examined</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peats the verb, or “action” of the statement</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ains the “so what”…proves why the thesis is corre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One:  Thesis Statement</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example:</a:t>
            </a: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plain how the setting contributes to the mood in the text.</a:t>
            </a: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is-In the story “The Most Dangerous Game” by Richard Connell, the dark and dangerous setting that Rainsford describes establishes the suspenseful atmosphere, or mood, which creates a mysterious tale with a surpise end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Two:  Provide Support</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need to effectively use information from the text to clarify or extend understanding.</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identifying the thesis statement, now you need support from the text.</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sure you are using transitions to move from one idea to the next (for example, first, second, third, also, in addition 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of Support</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Rainsford is first traveling on the ship, the “dank tropical night” was described as “press[ing] its thick warm blackness in upon the yacht” (Connell 40).</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ice that the student:</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roduced the quot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d quotations mark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ited the quote using MLA documentation </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uthor last name      page numbe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tep Three:  Explain Your Support</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finding a textual example, explain how the quote supports your thesi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happening in the quote?  Why is the quote importa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4:38:45Z</dcterms:created>
  <dc:creator>FCPS</dc:creator>
  <dc:description/>
  <dc:language>en-US</dc:language>
  <cp:lastModifiedBy>fcps</cp:lastModifiedBy>
  <dcterms:modified xsi:type="dcterms:W3CDTF">2011-08-11T17:04:40Z</dcterms:modified>
  <cp:revision>3</cp:revision>
  <dc:subject/>
  <dc:title>Tackling Analysis</dc:title>
</cp:coreProperties>
</file>